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E00-E9C9-4A97-9E92-04F2EC5C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E7C-D07A-43DD-A74A-2AB5D241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6C7-6E01-48AF-A800-58741FC9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602-5C63-4375-88D1-4641E467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BB61-170E-4EF3-ACB0-97479526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7A02-DE38-4A13-A700-A0800F42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D061-E2E9-4424-B43F-93328B84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F048-123C-45ED-AFA3-950F20A8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9C2F-1BF1-40B7-A84D-567D3E14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025B-4900-4EF1-8E3A-9401BDF2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57CA-55B4-478C-A6E8-B23E9A7A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8C2-C5D9-41C2-BBEC-92A7F84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92B1-B48F-4E79-BF14-7E8BFD1F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6F74-74D2-419F-90FF-CCC66A8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CB54-2E9D-49F5-81A0-E29D45A4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AAE2-B4AC-4A49-BB9A-A2FE549B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86AC-54C8-4907-971E-A3F00D7F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826-6594-4C6B-85DC-41BDA29F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79F-B722-48C5-BB57-978F122C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377-4F95-40A0-99D2-89F52569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28D-8510-4FB2-9344-03830AA4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7F5-7A10-4B36-B027-334320F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EF5-F848-4306-BD50-12DE7364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B34-7998-48E1-9D9B-7C880AC4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378D-7B89-4E69-AA61-1DA1C5B5CA95}" type="slidenum">
              <a:rPr b="0" lang="es-C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7062-29C6-4E12-A8B4-E01D3BA3609E}" type="slidenum">
              <a:rPr b="0" lang="es-C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Título" descr=""/>
          <p:cNvPicPr/>
          <p:nvPr/>
        </p:nvPicPr>
        <p:blipFill>
          <a:blip r:embed="rId1"/>
          <a:stretch/>
        </p:blipFill>
        <p:spPr>
          <a:xfrm>
            <a:off x="749160" y="712800"/>
            <a:ext cx="7785360" cy="1884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e8ea9"/>
                </a:solidFill>
                <a:latin typeface="Book Antiqua"/>
              </a:rPr>
              <a:t>Estudiante: </a:t>
            </a:r>
            <a:r>
              <a:rPr b="0" lang="es-CR" sz="2800" spc="-1" strike="noStrike">
                <a:solidFill>
                  <a:srgbClr val="ff0000"/>
                </a:solidFill>
                <a:latin typeface="Blackadder ITC"/>
              </a:rPr>
              <a:t>Òscar Alberto Alvarad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0000"/>
                </a:solidFill>
                <a:latin typeface="Blackadder ITC"/>
              </a:rPr>
              <a:t>Rodríguez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e8ea9"/>
                </a:solidFill>
                <a:latin typeface="Blackadder ITC"/>
              </a:rPr>
              <a:t>Sección </a:t>
            </a:r>
            <a:r>
              <a:rPr b="0" lang="es-CR" sz="2800" spc="-1" strike="noStrike">
                <a:solidFill>
                  <a:srgbClr val="ff0000"/>
                </a:solidFill>
                <a:latin typeface="Blackadder ITC"/>
              </a:rPr>
              <a:t>: </a:t>
            </a:r>
            <a:r>
              <a:rPr b="0" lang="es-CR" sz="2800" spc="-1" strike="noStrike">
                <a:solidFill>
                  <a:srgbClr val="ff0000"/>
                </a:solidFill>
                <a:latin typeface="Book Antiqua"/>
              </a:rPr>
              <a:t>7-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39640" y="475920"/>
            <a:ext cx="8229600" cy="58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366ff"/>
                </a:solidFill>
                <a:latin typeface="Book Antiqua"/>
              </a:rPr>
              <a:t>Adelantar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pasar la canción mas rápido Asia delan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Controls.fastForwa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3 Imagen" descr="adelantar.bmp"/>
          <p:cNvPicPr/>
          <p:nvPr/>
        </p:nvPicPr>
        <p:blipFill>
          <a:blip r:embed="rId4"/>
          <a:stretch/>
        </p:blipFill>
        <p:spPr>
          <a:xfrm>
            <a:off x="3419640" y="3500280"/>
            <a:ext cx="23047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6919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36600"/>
                </a:solidFill>
                <a:latin typeface="Book Antiqua"/>
              </a:rPr>
              <a:t>Atrasar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atrasar mas rápido el video Asia atrá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Controls.fastReve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3 Imagen" descr="retroceder.bmp"/>
          <p:cNvPicPr/>
          <p:nvPr/>
        </p:nvPicPr>
        <p:blipFill>
          <a:blip r:embed="rId4"/>
          <a:stretch/>
        </p:blipFill>
        <p:spPr>
          <a:xfrm>
            <a:off x="3492360" y="3573360"/>
            <a:ext cx="21416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c6600"/>
                </a:solidFill>
                <a:latin typeface="Book Antiqua"/>
              </a:rPr>
              <a:t>Salir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salir de todo el program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ThisDocument.Application.Visible = Tr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ThisDocument.Application.Qu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3 Imagen" descr="salir.bmp"/>
          <p:cNvPicPr/>
          <p:nvPr/>
        </p:nvPicPr>
        <p:blipFill>
          <a:blip r:embed="rId1"/>
          <a:stretch/>
        </p:blipFill>
        <p:spPr>
          <a:xfrm>
            <a:off x="3132000" y="3645000"/>
            <a:ext cx="27878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663300"/>
                </a:solidFill>
                <a:latin typeface="Book Antiqua"/>
              </a:rPr>
              <a:t>On/off 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quitar los botones y para volverlos a pon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Programación:If estado = False The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play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pause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stop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adelantar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atrasar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ute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as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enos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Exit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BOlista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BOlista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stado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4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BOlista.Enabled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stado = Tru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play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pause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stop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BOlista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adelantar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atrasar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as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enos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mute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CMDExit.Enabled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stado = Fal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c000"/>
                </a:solidFill>
                <a:latin typeface="Book Antiqua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3 Imagen" descr="3460396-green-ronda-boton-con-el-simbolo-on--off.jpg"/>
          <p:cNvPicPr/>
          <p:nvPr/>
        </p:nvPicPr>
        <p:blipFill>
          <a:blip r:embed="rId15"/>
          <a:stretch/>
        </p:blipFill>
        <p:spPr>
          <a:xfrm>
            <a:off x="6300720" y="1916280"/>
            <a:ext cx="224784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2060"/>
                </a:solidFill>
                <a:latin typeface="Book Antiqua"/>
              </a:rPr>
              <a:t>Barra para elegir el video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: sirve para escoger el video que deseamos</a:t>
            </a:r>
            <a:r>
              <a:rPr b="0" lang="es-CR" sz="2800" spc="-1" strike="noStrike">
                <a:solidFill>
                  <a:srgbClr val="00206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Programacion: Select Case CBOlista.ListIndex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Case 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WMPpantalla.URL = ActiveDocument.Path &amp; ("/Videos/basta de violencia.WMV"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Case 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WMPpantalla.URL = ActiveDocument.Path &amp; ("/Videos/EL Embarazo.WMV"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Case 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WMPpantalla.URL = ActiveDocumet.Path &amp; ("/Videos/Baile Del Robot.WMV"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2060"/>
                </a:solidFill>
                <a:latin typeface="Book Antiqua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Book Antiqua"/>
              </a:rPr>
              <a:t>Entramos a Microsoft Wor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Book Antiqua"/>
              </a:rPr>
              <a:t>estrimos alt y F11 al mismo tip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ff"/>
                </a:solidFill>
                <a:latin typeface="Book Antiqua"/>
              </a:rPr>
              <a:t>empezamos hacer el reproduc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Book Antiqua"/>
              </a:rPr>
              <a:t>Pla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7e4e99"/>
                </a:solidFill>
                <a:latin typeface="Book Antiqua"/>
              </a:rPr>
              <a:t>Pau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533ea9"/>
                </a:solidFill>
                <a:latin typeface="Book Antiqua"/>
              </a:rPr>
              <a:t>Sto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af9738"/>
                </a:solidFill>
                <a:latin typeface="Book Antiqua"/>
              </a:rPr>
              <a:t>Mu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b050"/>
                </a:solidFill>
                <a:latin typeface="Book Antiqua"/>
              </a:rPr>
              <a:t>Ma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Me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00000"/>
                </a:solidFill>
                <a:latin typeface="Book Antiqua"/>
              </a:rPr>
              <a:t>Adelant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92d050"/>
                </a:solidFill>
                <a:latin typeface="Book Antiqua"/>
              </a:rPr>
              <a:t>Atras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40bae0"/>
                </a:solidFill>
                <a:latin typeface="Book Antiqua"/>
              </a:rPr>
              <a:t>Salir, on/off la barra de elegir vide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Título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00"/>
                </a:solidFill>
                <a:latin typeface="Book Antiqua"/>
              </a:rPr>
              <a:t>Play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es para reproducir la canció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 WMPpantalla.Controls.pla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3 Imagen" descr="play.jpg"/>
          <p:cNvPicPr/>
          <p:nvPr/>
        </p:nvPicPr>
        <p:blipFill>
          <a:blip r:embed="rId5"/>
          <a:stretch/>
        </p:blipFill>
        <p:spPr>
          <a:xfrm>
            <a:off x="2843280" y="3500280"/>
            <a:ext cx="283356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b0f0"/>
                </a:solidFill>
                <a:latin typeface="Book Antiqua"/>
              </a:rPr>
              <a:t>Pause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pausar la canción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 WMPpantalla.Controls.pau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3 Imagen" descr="2550894_f520.jpg"/>
          <p:cNvPicPr/>
          <p:nvPr/>
        </p:nvPicPr>
        <p:blipFill>
          <a:blip r:embed="rId3"/>
          <a:stretch/>
        </p:blipFill>
        <p:spPr>
          <a:xfrm>
            <a:off x="3203640" y="2924280"/>
            <a:ext cx="3197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92d050"/>
                </a:solidFill>
                <a:latin typeface="Book Antiqua"/>
              </a:rPr>
              <a:t>Stop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devuelve la canción al inici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Controls.stop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3 Imagen" descr="iStock_000013765654XSmall4.jpg"/>
          <p:cNvPicPr/>
          <p:nvPr/>
        </p:nvPicPr>
        <p:blipFill>
          <a:blip r:embed="rId3"/>
          <a:stretch/>
        </p:blipFill>
        <p:spPr>
          <a:xfrm>
            <a:off x="2916360" y="2708280"/>
            <a:ext cx="330516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cc66ff"/>
                </a:solidFill>
                <a:latin typeface="Book Antiqua"/>
              </a:rPr>
              <a:t>Mute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poner la canción en silencio pero el video sigue en movimient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 :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If WMPpantalla.settings.mute = True T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settings.mute = Fal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El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settings.mute = Tru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3 Imagen" descr="5566177-loud-speaker-mute-glossy-button-isolated-over-white-background.jpg"/>
          <p:cNvPicPr/>
          <p:nvPr/>
        </p:nvPicPr>
        <p:blipFill>
          <a:blip r:embed="rId8"/>
          <a:stretch/>
        </p:blipFill>
        <p:spPr>
          <a:xfrm>
            <a:off x="3059280" y="4149720"/>
            <a:ext cx="3070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ff00"/>
                </a:solidFill>
                <a:latin typeface="Book Antiqua"/>
              </a:rPr>
              <a:t>Mas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subir el volumen de la canció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settings.volume = WMPpantalla.settings.volume + 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3 Imagen" descr="mas.bmp"/>
          <p:cNvPicPr/>
          <p:nvPr/>
        </p:nvPicPr>
        <p:blipFill>
          <a:blip r:embed="rId4"/>
          <a:stretch/>
        </p:blipFill>
        <p:spPr>
          <a:xfrm>
            <a:off x="3635280" y="2708280"/>
            <a:ext cx="25750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800000"/>
                </a:solidFill>
                <a:latin typeface="Book Antiqua"/>
              </a:rPr>
              <a:t>Menos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para bajar el volumen de la canció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c000"/>
                </a:solidFill>
                <a:latin typeface="Book Antiqua"/>
              </a:rPr>
              <a:t>Programación: </a:t>
            </a:r>
            <a:r>
              <a:rPr b="0" lang="es-CR" sz="2800" spc="-1" strike="noStrike">
                <a:solidFill>
                  <a:srgbClr val="000000"/>
                </a:solidFill>
                <a:latin typeface="Book Antiqua"/>
              </a:rPr>
              <a:t>WMPpantalla.settings.volume = WMPpantalla.settings.volume – 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3 Imagen" descr="imagesCA7J8F0A.jpg"/>
          <p:cNvPicPr/>
          <p:nvPr/>
        </p:nvPicPr>
        <p:blipFill>
          <a:blip r:embed="rId3"/>
          <a:stretch/>
        </p:blipFill>
        <p:spPr>
          <a:xfrm>
            <a:off x="3492360" y="306864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43:40Z</dcterms:created>
  <dc:creator>dos</dc:creator>
  <dc:description/>
  <dc:language>en-US</dc:language>
  <cp:lastModifiedBy>dos</cp:lastModifiedBy>
  <dcterms:modified xsi:type="dcterms:W3CDTF">2012-10-25T13:59:51Z</dcterms:modified>
  <cp:revision>13</cp:revision>
  <dc:subject/>
  <dc:title>Colegio bilingüe palmares</dc:title>
</cp:coreProperties>
</file>